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5AF9-9D83-4ACE-9E33-12E65F615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16BF-C6D2-454E-9046-EF76BAC6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FD8D-F047-49BD-B97F-32EE5B29D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EC95-1F6D-41F4-82EE-4D132AF33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ED60-CC68-42B7-927B-AE28A87D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7914-4920-4748-98D9-916203F0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E0FC-378C-49B7-9BFF-E8514E31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B6AD-CFC5-4F67-85E2-B7CE1AAB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5FAA-F622-40C3-80B4-B9950C8A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7DAF-9E53-4D35-ACC9-77ECA393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C1F7-4C08-463F-BE3A-D6F7571C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4DD9-BD99-4F3D-A14C-8B101D9B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6E3C-29C9-44C2-BEF0-B46407F47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33cc33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at N Mouse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Paulette Sala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191120" y="3581280"/>
            <a:ext cx="1218960" cy="1905120"/>
          </a:xfrm>
          <a:prstGeom prst="upArrow">
            <a:avLst>
              <a:gd name="adj1" fmla="val 50000"/>
              <a:gd name="adj2" fmla="val 390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19320"/>
            <a:ext cx="2209680" cy="1066680"/>
          </a:xfrm>
          <a:prstGeom prst="rightArrow">
            <a:avLst>
              <a:gd name="adj1" fmla="val 50000"/>
              <a:gd name="adj2" fmla="val 517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15000" y="2743200"/>
            <a:ext cx="2286000" cy="1066680"/>
          </a:xfrm>
          <a:prstGeom prst="leftArrow">
            <a:avLst>
              <a:gd name="adj1" fmla="val 50000"/>
              <a:gd name="adj2" fmla="val 535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838080"/>
            <a:ext cx="1218960" cy="1981440"/>
          </a:xfrm>
          <a:prstGeom prst="downArrow">
            <a:avLst>
              <a:gd name="adj1" fmla="val 25519"/>
              <a:gd name="adj2" fmla="val 467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33 0.38381 C -0.01649 0.3052 -0.06788 0.26404 -0.10764 0.28647 C -0.14896 0.3089 -0.16233 0.38751 -0.13802 0.46543 C -0.11302 0.54335 -0.12639 0.62081 -0.16771 0.64393 C -0.20712 0.66636 -0.25903 0.62497 -0.28351 0.54659 E"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54 -0.13804 C -0.17812 -0.08625 -0.03542 -0.40578 0.01979 -0.15191 C -0.03542 -0.40578 0.22778 -0.19607 0.03125 -0.14313 C 0.22778 -0.19607 0.08507 0.12277 0.025 -0.12902 C 0.08507 0.12277 -0.17812 -0.08625 0.01354 -0.13804 Z">
                                      <p:cBhvr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261 0.25595 C 0.20261 0.25595 0.12848 0.16532 0.12882 0.16555 C 0.07049 0.08532 0.06233 0.01526 0.0908 -0.05873 C 0.10521 -0.09665 0.129 -0.12347 0.15643 -0.1385 C 0.1757 -0.1489 0.19115 -0.16717 0.20052 -0.19191 C 0.21875 -0.23931 0.2099 -0.29549 0.18143 -0.33387 C 0.1816 -0.33364 0.14705 -0.37896 0.14723 -0.37896 C 0.14705 -0.37896 0.22101 -0.28532 0.22153 -0.28532 C 0.27795 -0.20601 0.28611 -0.13619 0.25851 -0.06428 C 0.24393 -0.02636 0.21962 0.00277 0.18993 0.0185 C 0.17275 0.02821 0.15747 0.04624 0.14861 0.06913 C 0.13056 0.1163 0.13907 0.17249 0.16754 0.21087 C 0.16789 0.2111 0.20261 0.25595 0.20261 0.25595 Z">
                                      <p:cBhvr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22 0.05642 L 0.14653 -0.07237 L 0.08021 0.08509 L 0.1757 -0.04347 L 0.11007 0.11491 L 0.20452 -0.01434 L 0.13924 0.14335 L 0.23351 0.0141 L 0.16806 0.17225 L 0.26337 0.04393 L 0.19705 0.20162 L 0.29271 0.07306 L 0.22622 0.23006 L 0.32136 0.10127 L 0.25608 0.25965 L 0.35035 0.1304 L 0.2849 0.28879 E">
                                      <p:cBhvr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WI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19520" y="1905120"/>
            <a:ext cx="365760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0066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Lo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114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4:17:01Z</dcterms:created>
  <dc:creator>CGB</dc:creator>
  <dc:description/>
  <dc:language>en-US</dc:language>
  <cp:lastModifiedBy>CGB</cp:lastModifiedBy>
  <dcterms:modified xsi:type="dcterms:W3CDTF">2008-06-05T13:39:17Z</dcterms:modified>
  <cp:revision>4</cp:revision>
  <dc:subject/>
  <dc:title>The Cat N Mouse Game</dc:title>
</cp:coreProperties>
</file>